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9.jpeg" ContentType="image/jpeg"/>
  <Override PartName="/ppt/media/image7.wmf" ContentType="image/x-wmf"/>
  <Override PartName="/ppt/media/image41.jpeg" ContentType="image/jpeg"/>
  <Override PartName="/ppt/media/image37.jpeg" ContentType="image/jpeg"/>
  <Override PartName="/ppt/media/image13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47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44.png" ContentType="image/png"/>
  <Override PartName="/ppt/media/image40.jpeg" ContentType="image/jpeg"/>
  <Override PartName="/ppt/media/image38.jpeg" ContentType="image/jpeg"/>
  <Override PartName="/ppt/media/image4.png" ContentType="image/png"/>
  <Override PartName="/ppt/media/image12.jpeg" ContentType="image/jpeg"/>
  <Override PartName="/ppt/media/image34.png" ContentType="image/png"/>
  <Override PartName="/ppt/media/image46.png" ContentType="image/png"/>
  <Override PartName="/ppt/media/image32.jpeg" ContentType="image/jpeg"/>
  <Override PartName="/ppt/media/image31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39.jpeg" ContentType="image/jpeg"/>
  <Override PartName="/ppt/media/image8.png" ContentType="image/png"/>
  <Override PartName="/ppt/media/image36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93BB-1EDB-4B6C-BA60-2D764F4F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8CD-600D-4E86-BD98-26D76196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B24-D6D3-4137-870A-6AFF2AD0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D6BC-9C06-4F1D-9BF4-67F03CC7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8A56-12A5-4DCD-AD55-C35E644A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BF7E-F041-44C3-ACA4-B5627465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3757-2064-40E7-BEB1-F60883DB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91C7-BB8E-4907-8060-A3CAFFFD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30C1-A125-4E41-B4E0-FF6BB0ED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706C-7DA6-4C11-BE9D-F302B739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B562-A2D0-455D-8713-44A0BE13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6EB-5E17-4F55-9308-03B8E73A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011C-26F3-46A0-BFE4-DC45C02B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C3D7-6E8D-477F-892E-EC82D26D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62C7-AD09-4D7B-AE6A-C947B42D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04AE-2200-43E3-BDAA-9876DC58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1483-5B79-476A-B328-987BF14F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A1BA8-C8D2-49B5-BBDB-0AD68EC9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ADF7B-55D6-4201-BFC3-983B784E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F5C57-ACB5-47AB-A475-DAE9B753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D094B-E0F4-4CBC-A3E3-638A96F5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DC9A9-843B-446A-B4DF-F3ACFBB1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3E3-E5B9-4A70-BABD-94237F34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33DA3-96D7-47BE-B796-162D4806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6A874-9596-46AF-8458-5E81D363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548F5-2413-4905-9575-D892F4A0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EBBBF-1E35-49E3-8F0E-7E6B614E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26E98-BA5D-4C5E-AAFA-4DB82B00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C3743-B511-4C8D-A652-5A455EF4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130C8-6C21-4A3A-8D06-7A07CEF6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05D-915F-44A3-9667-D1126779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92B-55DF-4CEA-8F7E-FE07EA69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41B8-8ACB-4880-8216-D3EC0179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29E-2BFF-4B75-9F80-5C39EABD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5E13-7CE0-4A92-A3A3-8DE2F76A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C3F-A98F-4B68-A935-BBE4CE34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3C62-8EEE-46DE-9705-4576149872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9906-DF58-4D41-9C1F-63ACDEBEF0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D74D-D336-4ED9-9619-7DA01C1830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71&amp;ed=1&amp;text=&#1074;&#1086;&#1087;&#1088;&#1086;&#1089;&amp;spsite=fake-011-1096084.ru&amp;img_url=absnoida.files.wordpress.com%2F2009%2F12%2Fmemory.jpg&amp;rpt=simage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71&amp;ed=1&amp;text=&#1074;&#1086;&#1087;&#1088;&#1086;&#1089;&amp;spsite=fake-011-1096084.ru&amp;img_url=absnoida.files.wordpress.com%2F2009%2F12%2Fmemory.jpg&amp;rpt=simage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search?p=4&amp;ed=1&amp;text=&#1074;&#1086;&#1087;&#1088;&#1086;&#1089;&amp;spsite=fake-008-222036.ru&amp;img_url=www.morefm.co.nz%2FPortals%2F0%2FMember%2FQMArk.jpg&amp;rpt=simage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storage.pressfoto.ru/2009.09/10376e4c177649a_b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71&amp;ed=1&amp;text=&#1074;&#1086;&#1087;&#1088;&#1086;&#1089;&amp;spsite=fake-011-1096084.ru&amp;img_url=absnoida.files.wordpress.com%2F2009%2F12%2Fmemory.jpg&amp;rpt=simage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search?p=4&amp;ed=1&amp;text=&#1074;&#1086;&#1087;&#1088;&#1086;&#1089;&amp;spsite=fake-008-222036.ru&amp;img_url=www.morefm.co.nz%2FPortals%2F0%2FMember%2FQMArk.jpg&amp;rpt=simage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Подзаголовок 2" descr=""/>
          <p:cNvPicPr/>
          <p:nvPr/>
        </p:nvPicPr>
        <p:blipFill>
          <a:blip r:embed="rId1"/>
          <a:stretch/>
        </p:blipFill>
        <p:spPr>
          <a:xfrm>
            <a:off x="2225520" y="1096920"/>
            <a:ext cx="6345360" cy="3346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BELLS7"/>
          <p:cNvPicPr/>
          <p:nvPr/>
        </p:nvPicPr>
        <p:blipFill>
          <a:blip r:embed="rId2"/>
          <a:stretch/>
        </p:blipFill>
        <p:spPr>
          <a:xfrm rot="19974600">
            <a:off x="6225840" y="4719240"/>
            <a:ext cx="2085840" cy="1760400"/>
          </a:xfrm>
          <a:prstGeom prst="rect">
            <a:avLst/>
          </a:prstGeom>
          <a:ln w="0">
            <a:noFill/>
          </a:ln>
        </p:spPr>
      </p:pic>
      <p:pic>
        <p:nvPicPr>
          <p:cNvPr id="128" name="январь чайковский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547640" y="-14760"/>
            <a:ext cx="60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казен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Троицкая средняя общеобразовательная школа №6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3059280" y="522936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начальных классов: Мигуш Л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900000" y="2013120"/>
            <a:ext cx="7786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ыяснить, какую работу выполняют органы чувств и понять почему их нужно береч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вайте выясни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4" descr="i?id=79142967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4724280"/>
            <a:ext cx="1297080" cy="1800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i?id=145012792-06"/>
          <p:cNvPicPr/>
          <p:nvPr/>
        </p:nvPicPr>
        <p:blipFill>
          <a:blip r:embed="rId3"/>
          <a:stretch/>
        </p:blipFill>
        <p:spPr>
          <a:xfrm>
            <a:off x="428760" y="35712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5"/>
          <p:cNvSpPr/>
          <p:nvPr/>
        </p:nvSpPr>
        <p:spPr>
          <a:xfrm>
            <a:off x="900000" y="148428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Картинка 15 из 25"/>
          <p:cNvPicPr/>
          <p:nvPr/>
        </p:nvPicPr>
        <p:blipFill>
          <a:blip r:embed="rId4"/>
          <a:stretch/>
        </p:blipFill>
        <p:spPr>
          <a:xfrm>
            <a:off x="2340000" y="3013200"/>
            <a:ext cx="446400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зкультминут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Супер физкультминутка для урока.mp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993080" cy="5329080"/>
          </a:xfrm>
          <a:prstGeom prst="rect">
            <a:avLst/>
          </a:prstGeom>
          <a:ln w="0">
            <a:noFill/>
          </a:ln>
        </p:spPr>
      </p:pic>
      <p:pic>
        <p:nvPicPr>
          <p:cNvPr id="180" name="Супер физкультминутка для урока.mp4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7993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рат с братом через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рогу живут, а  один другого не види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2"/>
          <p:cNvSpPr/>
          <p:nvPr/>
        </p:nvSpPr>
        <p:spPr>
          <a:xfrm>
            <a:off x="6156360" y="1844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Глаз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1042920" y="537552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за – орган зр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1251299478_8"/>
          <p:cNvPicPr/>
          <p:nvPr/>
        </p:nvPicPr>
        <p:blipFill>
          <a:blip r:embed="rId1"/>
          <a:stretch/>
        </p:blipFill>
        <p:spPr>
          <a:xfrm>
            <a:off x="2827440" y="2781360"/>
            <a:ext cx="34891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за – орган зр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2754000"/>
            <a:ext cx="453708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Объект 9" descr=""/>
          <p:cNvPicPr/>
          <p:nvPr/>
        </p:nvPicPr>
        <p:blipFill>
          <a:blip r:embed="rId1"/>
          <a:stretch/>
        </p:blipFill>
        <p:spPr>
          <a:xfrm>
            <a:off x="2724120" y="3141720"/>
            <a:ext cx="3861000" cy="29368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"/>
          <p:cNvSpPr/>
          <p:nvPr/>
        </p:nvSpPr>
        <p:spPr>
          <a:xfrm>
            <a:off x="1187280" y="1643040"/>
            <a:ext cx="70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ение – это способность воспринимать величину, форму, цвет предметов и их располо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Содержимое 3" descr="Изображение.png"/>
          <p:cNvPicPr/>
          <p:nvPr/>
        </p:nvPicPr>
        <p:blipFill>
          <a:blip r:embed="rId1"/>
          <a:srcRect l="0" t="0" r="1072" b="0"/>
          <a:stretch/>
        </p:blipFill>
        <p:spPr>
          <a:xfrm>
            <a:off x="611280" y="1060560"/>
            <a:ext cx="803592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900000" y="997200"/>
            <a:ext cx="770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трогай глаза грязными ру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терегайся острых предм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наклоняй голову близко к книге, расстояние должно быть около 30 санти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читай в транспор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читай л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смотри долго телевизор, и не сиди часами за компьют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читай при плохом освещении и береги глаза от яркого света и вспы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яй упражнения для отдыха гл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1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6804000" y="4724280"/>
            <a:ext cx="1967040" cy="172908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4"/>
          <p:cNvSpPr/>
          <p:nvPr/>
        </p:nvSpPr>
        <p:spPr>
          <a:xfrm>
            <a:off x="1187280" y="5229360"/>
            <a:ext cx="54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ывод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узнали, что к органам чувств  относятся орган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р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2268360" y="298440"/>
            <a:ext cx="50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«Гигиена органа зр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зкультминутка для гл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26560" y="2205000"/>
            <a:ext cx="78598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 вверх - вни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 направо - нале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 вдаль - на кончик но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ойте глаза и послушайте музыку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4" descr="Photo Noise of the mountain river by Vladimir Malyugin - lan…"/>
          <p:cNvPicPr/>
          <p:nvPr/>
        </p:nvPicPr>
        <p:blipFill>
          <a:blip r:embed="rId1"/>
          <a:stretch/>
        </p:blipFill>
        <p:spPr>
          <a:xfrm>
            <a:off x="468360" y="333360"/>
            <a:ext cx="8353440" cy="6240600"/>
          </a:xfrm>
          <a:prstGeom prst="rect">
            <a:avLst/>
          </a:prstGeom>
          <a:ln w="0">
            <a:noFill/>
          </a:ln>
        </p:spPr>
      </p:pic>
      <p:pic>
        <p:nvPicPr>
          <p:cNvPr id="198" name="Muzyka-prirody-Shum-vody-penie-ptic-v-lesu (mp3cut.ru).mp3" descr=""/>
          <p:cNvPicPr/>
          <p:nvPr/>
        </p:nvPicPr>
        <p:blipFill>
          <a:blip r:embed="rId2"/>
          <a:stretch/>
        </p:blipFill>
        <p:spPr>
          <a:xfrm>
            <a:off x="826920" y="5732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9" name="шум моря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0" name="шум моря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1" name="Звуки природы - Море и птицы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231808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31808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31808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3786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574375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Объект 4" descr=""/>
          <p:cNvPicPr/>
          <p:nvPr/>
        </p:nvPicPr>
        <p:blipFill>
          <a:blip r:embed="rId1"/>
          <a:stretch/>
        </p:blipFill>
        <p:spPr>
          <a:xfrm>
            <a:off x="971640" y="1494000"/>
            <a:ext cx="3398760" cy="424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4500720" y="1557360"/>
            <a:ext cx="41860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ушей  мы различаем человеческую речь, голоса животных, музыку, звуки, шумы и шорох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вреждении органов слуха человек становится глух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ите уш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 слуха- уш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одержимое 3" descr="Изображение.png"/>
          <p:cNvPicPr/>
          <p:nvPr/>
        </p:nvPicPr>
        <p:blipFill>
          <a:blip r:embed="rId1"/>
          <a:stretch/>
        </p:blipFill>
        <p:spPr>
          <a:xfrm>
            <a:off x="492120" y="836640"/>
            <a:ext cx="82296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2923920"/>
            <a:ext cx="4249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Хороше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39960" y="836640"/>
            <a:ext cx="30211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Отлич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4" descr="WWW.OPEN.AZ Версия для печати ***СмАйлИкИ"/>
          <p:cNvPicPr/>
          <p:nvPr/>
        </p:nvPicPr>
        <p:blipFill>
          <a:blip r:embed="rId1"/>
          <a:stretch/>
        </p:blipFill>
        <p:spPr>
          <a:xfrm>
            <a:off x="6443640" y="47628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Смайлики картинки Сайт фотографий, картинок и анимаций"/>
          <p:cNvPicPr/>
          <p:nvPr/>
        </p:nvPicPr>
        <p:blipFill>
          <a:blip r:embed="rId2"/>
          <a:stretch/>
        </p:blipFill>
        <p:spPr>
          <a:xfrm>
            <a:off x="6300720" y="2421000"/>
            <a:ext cx="2232000" cy="17287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6" descr="Zemanta Related Posts Thumbnail Интересные статусы"/>
          <p:cNvPicPr/>
          <p:nvPr/>
        </p:nvPicPr>
        <p:blipFill>
          <a:blip r:embed="rId3"/>
          <a:stretch/>
        </p:blipFill>
        <p:spPr>
          <a:xfrm>
            <a:off x="6443640" y="4221000"/>
            <a:ext cx="2021040" cy="18288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7"/>
          <p:cNvSpPr/>
          <p:nvPr/>
        </p:nvSpPr>
        <p:spPr>
          <a:xfrm>
            <a:off x="1839960" y="4797360"/>
            <a:ext cx="44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много груст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C:\Documents and Settings\User\Рабочий стол\Школьный клипарт\ef9a2aae22e6.jpg"/>
          <p:cNvPicPr/>
          <p:nvPr/>
        </p:nvPicPr>
        <p:blipFill>
          <a:blip r:embed="rId4"/>
          <a:srcRect l="2268" t="2305" r="3780" b="4609"/>
          <a:stretch/>
        </p:blipFill>
        <p:spPr>
          <a:xfrm>
            <a:off x="468360" y="5084640"/>
            <a:ext cx="13716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971640" y="1467360"/>
            <a:ext cx="770400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лушайте громко му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моетесь, вода не должна попадать в у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щайте уши от ве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чистите уши острыми предме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о мойте у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1"/>
          <a:srcRect l="34001" t="0" r="36005" b="63421"/>
          <a:stretch/>
        </p:blipFill>
        <p:spPr>
          <a:xfrm>
            <a:off x="6834240" y="4491000"/>
            <a:ext cx="1800000" cy="180036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  <p:sp>
        <p:nvSpPr>
          <p:cNvPr id="208" name="Прямоугольник 5"/>
          <p:cNvSpPr/>
          <p:nvPr/>
        </p:nvSpPr>
        <p:spPr>
          <a:xfrm>
            <a:off x="971640" y="4925880"/>
            <a:ext cx="582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ывод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ы узнали, что к органам чувств относятся орган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х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2484360" y="353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 пра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1042920" y="469440"/>
            <a:ext cx="6985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двух све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редине я од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6408720" y="1017000"/>
            <a:ext cx="133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Но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5"/>
          <p:cNvSpPr/>
          <p:nvPr/>
        </p:nvSpPr>
        <p:spPr>
          <a:xfrm>
            <a:off x="809640" y="5445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с– орган обон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6" descr="н..jpg"/>
          <p:cNvPicPr/>
          <p:nvPr/>
        </p:nvPicPr>
        <p:blipFill>
          <a:blip r:embed="rId1"/>
          <a:stretch/>
        </p:blipFill>
        <p:spPr>
          <a:xfrm>
            <a:off x="2700360" y="1838160"/>
            <a:ext cx="39574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1144440" y="361800"/>
            <a:ext cx="717264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ведчик запахов- н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нос"/>
          <p:cNvPicPr/>
          <p:nvPr/>
        </p:nvPicPr>
        <p:blipFill>
          <a:blip r:embed="rId1"/>
          <a:stretch/>
        </p:blipFill>
        <p:spPr>
          <a:xfrm>
            <a:off x="4299120" y="1916280"/>
            <a:ext cx="4375080" cy="36003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826920" y="1844640"/>
            <a:ext cx="331344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ительные волоски обнаруживают разные запахи.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них идут сигналы по нервам в твой моз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1042920" y="1640880"/>
            <a:ext cx="684072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до закаляться, беречь организм от просту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лазить в нос посторонними предме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курить, так как  обоняние у курящих ухудш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"/>
          <p:cNvSpPr/>
          <p:nvPr/>
        </p:nvSpPr>
        <p:spPr>
          <a:xfrm>
            <a:off x="1332000" y="515772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вод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ы с вами узнали, что к органам чувств относится орган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оня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2195640" y="404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сохранить обоня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826920" y="472680"/>
            <a:ext cx="77788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гда во р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не проглотиш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6380640" y="100656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Язык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1692360" y="4221000"/>
            <a:ext cx="5911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зык– орган вк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5" descr="я.jpg"/>
          <p:cNvPicPr/>
          <p:nvPr/>
        </p:nvPicPr>
        <p:blipFill>
          <a:blip r:embed="rId1"/>
          <a:stretch/>
        </p:blipFill>
        <p:spPr>
          <a:xfrm>
            <a:off x="2843280" y="1844640"/>
            <a:ext cx="2881080" cy="219096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6"/>
          <p:cNvSpPr/>
          <p:nvPr/>
        </p:nvSpPr>
        <p:spPr>
          <a:xfrm>
            <a:off x="468360" y="501336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 помогает человеку различать вкус 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rcRect l="0" t="1373" r="0" b="2766"/>
          <a:stretch/>
        </p:blipFill>
        <p:spPr>
          <a:xfrm>
            <a:off x="468360" y="260280"/>
            <a:ext cx="835164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826920" y="1473480"/>
            <a:ext cx="763272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760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ить зубы, язык и щёки два раза в день (утром и вечер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760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риёма пищи прополоскать 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760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есть горячую пищ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760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рать в рот острые предм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1028880" y="4869000"/>
            <a:ext cx="66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ывод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узнали, что к органам чувств относится орган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кус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rcRect l="12002" t="58546" r="56001" b="2443"/>
          <a:stretch/>
        </p:blipFill>
        <p:spPr>
          <a:xfrm>
            <a:off x="6827760" y="4116240"/>
            <a:ext cx="1650960" cy="165132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  <p:sp>
        <p:nvSpPr>
          <p:cNvPr id="230" name="TextBox 2"/>
          <p:cNvSpPr/>
          <p:nvPr/>
        </p:nvSpPr>
        <p:spPr>
          <a:xfrm>
            <a:off x="2065320" y="471600"/>
            <a:ext cx="558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к беречь органы вку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D:\man_bak\Root\Мои документы\фоны для пр\0007-006-Oschuschashki.jpg"/>
          <p:cNvPicPr/>
          <p:nvPr/>
        </p:nvPicPr>
        <p:blipFill>
          <a:blip r:embed="rId1"/>
          <a:stretch/>
        </p:blipFill>
        <p:spPr>
          <a:xfrm>
            <a:off x="6753240" y="3645000"/>
            <a:ext cx="1851120" cy="1850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D:\man_bak\Root\Мои документы\фоны для пр\0007-007-Oschuschashki.jpg"/>
          <p:cNvPicPr/>
          <p:nvPr/>
        </p:nvPicPr>
        <p:blipFill>
          <a:blip r:embed="rId2"/>
          <a:stretch/>
        </p:blipFill>
        <p:spPr>
          <a:xfrm>
            <a:off x="6718320" y="1438200"/>
            <a:ext cx="1851120" cy="1990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D:\man_bak\Root\Мои документы\фоны для пр\9.jpg"/>
          <p:cNvPicPr/>
          <p:nvPr/>
        </p:nvPicPr>
        <p:blipFill>
          <a:blip r:embed="rId3"/>
          <a:stretch/>
        </p:blipFill>
        <p:spPr>
          <a:xfrm>
            <a:off x="1009800" y="4005360"/>
            <a:ext cx="5472000" cy="15382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7"/>
          <p:cNvSpPr/>
          <p:nvPr/>
        </p:nvSpPr>
        <p:spPr>
          <a:xfrm>
            <a:off x="1643040" y="36972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 осязания -ко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1116000" y="1557360"/>
            <a:ext cx="527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 чувствует </a:t>
            </a: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пло и хол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 воспринимает </a:t>
            </a: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 </a:t>
            </a: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ботится о нашем 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900000" y="36036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жа – орган осяз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6443640" y="2300400"/>
            <a:ext cx="2016000" cy="15843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1001880" y="1704960"/>
            <a:ext cx="5040000" cy="344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ждую неделю мыть тело горячей водой с мы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цо, уши, шею мыть не реже двух раз в 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можно чаще мойте руки с мылом и обязательно - перед каждым приемом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райтесь не ранить кожу, не допустить ожогов, обмор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забывайте регулярно подстригать ног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5"/>
          <p:cNvSpPr/>
          <p:nvPr/>
        </p:nvSpPr>
        <p:spPr>
          <a:xfrm>
            <a:off x="971640" y="530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ывод: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узнали, что к органам чувств относится и орган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яз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1235160" y="12906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авила ухода за кож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Не глаз видит, не ухо слышит,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нос ощущает, а мозг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190512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1"/>
          <p:cNvPicPr/>
          <p:nvPr/>
        </p:nvPicPr>
        <p:blipFill>
          <a:blip r:embed="rId1"/>
          <a:srcRect l="1888" t="5630" r="3837" b="4239"/>
          <a:stretch/>
        </p:blipFill>
        <p:spPr>
          <a:xfrm>
            <a:off x="1003320" y="1808280"/>
            <a:ext cx="6881760" cy="40734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7"/>
          <p:cNvSpPr/>
          <p:nvPr/>
        </p:nvSpPr>
        <p:spPr>
          <a:xfrm>
            <a:off x="1563840" y="1438200"/>
            <a:ext cx="287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9900"/>
                </a:solidFill>
                <a:latin typeface="Arial"/>
                <a:ea typeface="Times New Roman"/>
              </a:rPr>
              <a:t>ОРГАН  ОСЯЗАНИЯ  -  КОЖ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4932360" y="1436760"/>
            <a:ext cx="284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  <a:ea typeface="Times New Roman"/>
              </a:rPr>
              <a:t>ОРГАН  ОБОНЯНИЯ  -  Н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356520" y="5373720"/>
            <a:ext cx="2376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ОРГАН  СЛУХА  -  УШ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3760920" y="5859360"/>
            <a:ext cx="2592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  <a:ea typeface="Times New Roman"/>
              </a:rPr>
              <a:t>ОРГАН  ВКУСА  -  ЯЗЫ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1022400" y="5491080"/>
            <a:ext cx="280836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ОРГАН ЗРЕНИЯ  -  ГЛ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755640" y="3200400"/>
            <a:ext cx="806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528480" y="1098720"/>
            <a:ext cx="8291520" cy="525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Ф.И. _____________________________________________________________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1 шаг.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иши слова, которые помогут тебе на уроке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___________________________________________________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2 шаг. ВЫВОД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толе листы картона ………, …….., ………   цвета. Определить цвет картона помогли …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а для справок: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сного, глаза, зеленого, желтого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толе игрушки ………, …….., …….. Узнать “голос” каждого предмета помогли …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а для справок: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гремушка, уши, барабан, дуд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коробочках находится: ……, …, …..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пределить каждый предмет в коробочках нам помог наш ……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а для справок: 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снок, лук, нос,  лимон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таканах находится: …., …., …... Чтобы определить, какие вещества в стаканах, надо было попробовать их на ….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м помог–  ….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а для справок: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ка, язык, соль, сахар, вкус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коробочках  находится:….., ……, ……….. Определить предметы смогли при помощи …. Нам помогла– …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а для справок: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мягкий мяч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  , рук,  пластмасса, резиновая игрушка, кож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а для справок: 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снок, лук, нос,  лимон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3 шаг.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Блиц-опрос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1 Глаза - это орган …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Язык – это орган …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Уши – это орган …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Нос – это орган ……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Кожа – это орган ……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Органы чувств нужно …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а для справок: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язания, зрения, обоняния, слуха, вкуса, беречь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4 шаг. Оценивание работы групп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Calibri"/>
              </a:rPr>
              <a:t>Оценка:      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Calibri"/>
              </a:rPr>
              <a:t>3       4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1193760" y="98100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ванов И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2286000" y="3668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Лист наблюдений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иц о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95320" y="2018880"/>
            <a:ext cx="760104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 человека есть орг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Глаза - это орг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ши – это орг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ос – это орг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Язык – это орган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вкус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ожа – это орг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семи органами чувств руководи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Прямоугольник 4" descr=""/>
          <p:cNvPicPr/>
          <p:nvPr/>
        </p:nvPicPr>
        <p:blipFill>
          <a:blip r:embed="rId1"/>
          <a:stretch/>
        </p:blipFill>
        <p:spPr>
          <a:xfrm>
            <a:off x="3962520" y="1951200"/>
            <a:ext cx="2189160" cy="54288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5" descr=""/>
          <p:cNvPicPr/>
          <p:nvPr/>
        </p:nvPicPr>
        <p:blipFill>
          <a:blip r:embed="rId2"/>
          <a:stretch/>
        </p:blipFill>
        <p:spPr>
          <a:xfrm>
            <a:off x="3432240" y="2382840"/>
            <a:ext cx="1474560" cy="53172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6" descr=""/>
          <p:cNvPicPr/>
          <p:nvPr/>
        </p:nvPicPr>
        <p:blipFill>
          <a:blip r:embed="rId3"/>
          <a:stretch/>
        </p:blipFill>
        <p:spPr>
          <a:xfrm>
            <a:off x="2981160" y="2846520"/>
            <a:ext cx="2084400" cy="52992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оугольник 7" descr=""/>
          <p:cNvPicPr/>
          <p:nvPr/>
        </p:nvPicPr>
        <p:blipFill>
          <a:blip r:embed="rId4"/>
          <a:stretch/>
        </p:blipFill>
        <p:spPr>
          <a:xfrm>
            <a:off x="3243240" y="3243240"/>
            <a:ext cx="1846440" cy="53676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8" descr=""/>
          <p:cNvPicPr/>
          <p:nvPr/>
        </p:nvPicPr>
        <p:blipFill>
          <a:blip r:embed="rId5"/>
          <a:stretch/>
        </p:blipFill>
        <p:spPr>
          <a:xfrm>
            <a:off x="3700440" y="4084560"/>
            <a:ext cx="2371680" cy="530280"/>
          </a:xfrm>
          <a:prstGeom prst="rect">
            <a:avLst/>
          </a:prstGeom>
          <a:ln w="0">
            <a:noFill/>
          </a:ln>
        </p:spPr>
      </p:pic>
      <p:pic>
        <p:nvPicPr>
          <p:cNvPr id="256" name="Прямоугольник 9" descr=""/>
          <p:cNvPicPr/>
          <p:nvPr/>
        </p:nvPicPr>
        <p:blipFill>
          <a:blip r:embed="rId6"/>
          <a:stretch/>
        </p:blipFill>
        <p:spPr>
          <a:xfrm>
            <a:off x="5699160" y="4591080"/>
            <a:ext cx="24271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План работы над темой в группа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Что я хочу узнать об органах чувст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Сколько органов чувств у челове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ак устроен …………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акое значение имеет………. в  жизни челове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Правила ухода за органами ………….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b053e"/>
                </a:solidFill>
                <a:latin typeface="AnastasiaScript"/>
              </a:rPr>
              <a:t>«Дерево ожиданий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4" descr="i?id=79142967-02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i?id=145012792-06"/>
          <p:cNvPicPr/>
          <p:nvPr/>
        </p:nvPicPr>
        <p:blipFill>
          <a:blip r:embed="rId2"/>
          <a:stretch/>
        </p:blipFill>
        <p:spPr>
          <a:xfrm>
            <a:off x="428760" y="35712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923920"/>
            <a:ext cx="4249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Хороше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839960" y="836640"/>
            <a:ext cx="30211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Отлич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Рисунок 4" descr="WWW.OPEN.AZ Версия для печати ***СмАйлИкИ"/>
          <p:cNvPicPr/>
          <p:nvPr/>
        </p:nvPicPr>
        <p:blipFill>
          <a:blip r:embed="rId1"/>
          <a:stretch/>
        </p:blipFill>
        <p:spPr>
          <a:xfrm>
            <a:off x="6443640" y="47628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5" descr="Смайлики картинки Сайт фотографий, картинок и анимаций"/>
          <p:cNvPicPr/>
          <p:nvPr/>
        </p:nvPicPr>
        <p:blipFill>
          <a:blip r:embed="rId2"/>
          <a:stretch/>
        </p:blipFill>
        <p:spPr>
          <a:xfrm>
            <a:off x="6300720" y="2421000"/>
            <a:ext cx="2232000" cy="172872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6" descr="Zemanta Related Posts Thumbnail Интересные статусы"/>
          <p:cNvPicPr/>
          <p:nvPr/>
        </p:nvPicPr>
        <p:blipFill>
          <a:blip r:embed="rId3"/>
          <a:stretch/>
        </p:blipFill>
        <p:spPr>
          <a:xfrm>
            <a:off x="6443640" y="4221000"/>
            <a:ext cx="2021040" cy="182880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7"/>
          <p:cNvSpPr/>
          <p:nvPr/>
        </p:nvSpPr>
        <p:spPr>
          <a:xfrm>
            <a:off x="1839960" y="4797360"/>
            <a:ext cx="44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много груст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C:\Documents and Settings\User\Рабочий стол\Школьный клипарт\ef9a2aae22e6.jpg"/>
          <p:cNvPicPr/>
          <p:nvPr/>
        </p:nvPicPr>
        <p:blipFill>
          <a:blip r:embed="rId4"/>
          <a:srcRect l="2268" t="2305" r="3780" b="4609"/>
          <a:stretch/>
        </p:blipFill>
        <p:spPr>
          <a:xfrm>
            <a:off x="468360" y="5084640"/>
            <a:ext cx="13716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"/>
          <p:cNvSpPr/>
          <p:nvPr/>
        </p:nvSpPr>
        <p:spPr>
          <a:xfrm>
            <a:off x="684360" y="1130760"/>
            <a:ext cx="82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ить на альбомном листе памятку (на выбор) гигиена органов чувств, используя учебник (стр. 148-14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rcRect l="2665" t="0" r="4001" b="5010"/>
          <a:stretch/>
        </p:blipFill>
        <p:spPr>
          <a:xfrm>
            <a:off x="1619280" y="2583000"/>
            <a:ext cx="6121440" cy="380844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  <p:sp>
        <p:nvSpPr>
          <p:cNvPr id="270" name="TextBox 2"/>
          <p:cNvSpPr/>
          <p:nvPr/>
        </p:nvSpPr>
        <p:spPr>
          <a:xfrm>
            <a:off x="2411280" y="336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ее за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4" descr="Спасибо за урок - Картинка 6575/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2"/>
          <p:cNvSpPr/>
          <p:nvPr/>
        </p:nvSpPr>
        <p:spPr>
          <a:xfrm>
            <a:off x="108000" y="404640"/>
            <a:ext cx="90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070d"/>
                </a:solidFill>
                <a:latin typeface="Times New Roman"/>
                <a:ea typeface="Times New Roman"/>
              </a:rPr>
              <a:t>Чтоб окружающий мир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ть</a:t>
            </a:r>
            <a:r>
              <a:rPr b="0" lang="ru-RU" sz="2800" spc="-1" strike="noStrike">
                <a:solidFill>
                  <a:srgbClr val="03070d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070d"/>
                </a:solidFill>
                <a:latin typeface="Times New Roman"/>
                <a:ea typeface="Times New Roman"/>
              </a:rPr>
              <a:t>Нужно уме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ть</a:t>
            </a:r>
            <a:r>
              <a:rPr b="0" lang="ru-RU" sz="2800" spc="-1" strike="noStrike">
                <a:solidFill>
                  <a:srgbClr val="03070d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070d"/>
                </a:solidFill>
                <a:latin typeface="Times New Roman"/>
                <a:ea typeface="Times New Roman"/>
              </a:rPr>
              <a:t>Признаки предметов любы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ть</a:t>
            </a:r>
            <a:r>
              <a:rPr b="0" lang="ru-RU" sz="2800" spc="-1" strike="noStrike">
                <a:solidFill>
                  <a:srgbClr val="03070d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070d"/>
                </a:solidFill>
                <a:latin typeface="Times New Roman"/>
                <a:ea typeface="Times New Roman"/>
              </a:rPr>
              <a:t>Их общие и различные свойств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ть</a:t>
            </a:r>
            <a:r>
              <a:rPr b="0" lang="ru-RU" sz="2800" spc="-1" strike="noStrike">
                <a:solidFill>
                  <a:srgbClr val="03070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2909880" cy="3672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3995640" y="2421000"/>
            <a:ext cx="44672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900000" y="2013120"/>
            <a:ext cx="7786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 это за волшебные помощники, которые помогают нам  ощущать красоту и неповторимость окружающего мир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вайте выясни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i?id=79142967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4724280"/>
            <a:ext cx="1297080" cy="180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i?id=145012792-0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760" y="35712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5"/>
          <p:cNvSpPr/>
          <p:nvPr/>
        </p:nvSpPr>
        <p:spPr>
          <a:xfrm>
            <a:off x="900000" y="148428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 человек воспринимает окружающий ми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Картинка 15 из 2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340000" y="3213000"/>
            <a:ext cx="4464000" cy="30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5" descr="картинка-исследователь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1547640" y="2637000"/>
            <a:ext cx="4732560" cy="3155760"/>
          </a:xfrm>
          <a:prstGeom prst="rect">
            <a:avLst/>
          </a:prstGeom>
          <a:ln w="57240">
            <a:solidFill>
              <a:srgbClr val="558ed5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2" name="Прямоугольник 8"/>
          <p:cNvSpPr/>
          <p:nvPr/>
        </p:nvSpPr>
        <p:spPr>
          <a:xfrm>
            <a:off x="684360" y="620640"/>
            <a:ext cx="621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ститут научных исследова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10" descr="3.jpg"/>
          <p:cNvPicPr/>
          <p:nvPr/>
        </p:nvPicPr>
        <p:blipFill>
          <a:blip r:embed="rId2"/>
          <a:stretch/>
        </p:blipFill>
        <p:spPr>
          <a:xfrm>
            <a:off x="7000920" y="357120"/>
            <a:ext cx="1666800" cy="2643120"/>
          </a:xfrm>
          <a:prstGeom prst="rect">
            <a:avLst/>
          </a:prstGeom>
          <a:ln w="57240">
            <a:solidFill>
              <a:srgbClr val="558ed5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7520" y="333000"/>
            <a:ext cx="56275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в группах (правила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3132000" y="2770200"/>
            <a:ext cx="3095640" cy="19000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900000" y="1125360"/>
            <a:ext cx="7307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роле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экспе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читает задание вслух всей групп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лаборан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ассказывает, что решила групп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наблюдат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ледит за време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 разговоре должен участвовать кажд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говорить спокойно и яс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говорить только по д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План работы над темой в группа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Что я хочу узнать об органах чувст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Сколько органов чувств у челове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ак устроен …………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акое значение имеет………. в  жизни челове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Правила ухода за органами ………….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b053e"/>
                </a:solidFill>
                <a:latin typeface="AnastasiaScript"/>
              </a:rPr>
              <a:t>«Дерево ожиданий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i?id=79142967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4724280"/>
            <a:ext cx="1297080" cy="1800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i?id=145012792-0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760" y="35712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Ы ЧУВСТ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2" descr="г.jpg"/>
          <p:cNvPicPr/>
          <p:nvPr/>
        </p:nvPicPr>
        <p:blipFill>
          <a:blip r:embed="rId1"/>
          <a:stretch/>
        </p:blipFill>
        <p:spPr>
          <a:xfrm>
            <a:off x="896760" y="1901880"/>
            <a:ext cx="21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3" descr="н..jpg"/>
          <p:cNvPicPr/>
          <p:nvPr/>
        </p:nvPicPr>
        <p:blipFill>
          <a:blip r:embed="rId2"/>
          <a:stretch/>
        </p:blipFill>
        <p:spPr>
          <a:xfrm>
            <a:off x="3540240" y="2995560"/>
            <a:ext cx="2087280" cy="2087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4" descr="у..jpg"/>
          <p:cNvPicPr/>
          <p:nvPr/>
        </p:nvPicPr>
        <p:blipFill>
          <a:blip r:embed="rId3"/>
          <a:stretch/>
        </p:blipFill>
        <p:spPr>
          <a:xfrm>
            <a:off x="826920" y="4437000"/>
            <a:ext cx="2246400" cy="181152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" descr="я.jpg"/>
          <p:cNvPicPr/>
          <p:nvPr/>
        </p:nvPicPr>
        <p:blipFill>
          <a:blip r:embed="rId4"/>
          <a:stretch/>
        </p:blipFill>
        <p:spPr>
          <a:xfrm>
            <a:off x="6499080" y="1724040"/>
            <a:ext cx="1905120" cy="19209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6" descr="р..jpg"/>
          <p:cNvPicPr/>
          <p:nvPr/>
        </p:nvPicPr>
        <p:blipFill>
          <a:blip r:embed="rId5"/>
          <a:srcRect l="0" t="0" r="0" b="-461"/>
          <a:stretch/>
        </p:blipFill>
        <p:spPr>
          <a:xfrm>
            <a:off x="6157800" y="4363920"/>
            <a:ext cx="2246400" cy="1920960"/>
          </a:xfrm>
          <a:prstGeom prst="rect">
            <a:avLst/>
          </a:prstGeom>
          <a:ln w="0">
            <a:noFill/>
          </a:ln>
        </p:spPr>
      </p:pic>
      <p:cxnSp>
        <p:nvCxnSpPr>
          <p:cNvPr id="167" name="Прямая со стрелкой 8"/>
          <p:cNvCxnSpPr/>
          <p:nvPr/>
        </p:nvCxnSpPr>
        <p:spPr>
          <a:xfrm flipH="1">
            <a:off x="2842560" y="1341360"/>
            <a:ext cx="361080" cy="504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8" name="Прямая со стрелкой 10"/>
          <p:cNvCxnSpPr/>
          <p:nvPr/>
        </p:nvCxnSpPr>
        <p:spPr>
          <a:xfrm flipH="1">
            <a:off x="2842560" y="1341000"/>
            <a:ext cx="1081800" cy="3025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9" name="Прямая со стрелкой 16"/>
          <p:cNvCxnSpPr/>
          <p:nvPr/>
        </p:nvCxnSpPr>
        <p:spPr>
          <a:xfrm>
            <a:off x="4571640" y="1413000"/>
            <a:ext cx="1080" cy="1512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0" name="Прямая со стрелкой 20"/>
          <p:cNvCxnSpPr/>
          <p:nvPr/>
        </p:nvCxnSpPr>
        <p:spPr>
          <a:xfrm>
            <a:off x="5364000" y="1412640"/>
            <a:ext cx="1153440" cy="28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" name="Прямая со стрелкой 22"/>
          <p:cNvCxnSpPr/>
          <p:nvPr/>
        </p:nvCxnSpPr>
        <p:spPr>
          <a:xfrm>
            <a:off x="5866920" y="1341360"/>
            <a:ext cx="50580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HOME</cp:lastModifiedBy>
  <dcterms:modified xsi:type="dcterms:W3CDTF">2026-02-01T05:38:26Z</dcterms:modified>
  <cp:revision>443</cp:revision>
  <dc:subject/>
  <dc:title>Слайд 1</dc:title>
</cp:coreProperties>
</file>